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EE4B-797A-47D5-824D-50D720CBE8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7E0C-C7DE-4309-B590-BB028B43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BF48-E2B9-4489-8209-E0835C32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237-42D6-4A7D-A422-233331A77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9EC8-70FE-43A7-A40B-8D5E98535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50101-78FB-42BB-B3C7-019A1FAA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6392B-C4BC-4204-80A2-59CE3ACC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674DD-F22E-4DD7-932A-C12CA07F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98093-4DD0-4AC5-A3F7-FF07A567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8031-F1B3-4E69-8F54-E110077F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2BDF-DA5F-4895-A6E4-A24AD0CC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EB45-02CA-4576-8E5E-C00E574B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CF7B-C931-43BE-820F-8DB94595F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126C-8BFB-4C4D-B841-205250A9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392C-19D0-4811-BAC3-6A33F2A4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B0DD-2271-4C37-8FC8-0F120BA7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39E89-E6C6-44F1-AD3A-1BE6D11C6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CBF4-C0BA-4EFB-B068-0FA704EA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81CC0-7615-4DA4-A3BB-42BB55A2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588D9-9C35-4FF8-AD6F-9AB08885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733C1-B576-434C-BB9E-8E9A6906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E8C62-452A-438E-A649-5158E569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13516-1D71-430B-BBD0-BA641153B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215F-4D16-42CE-AFCD-FCA32F97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34022-D1B0-40D5-9831-9D648B51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1C594-A703-47EE-B336-A80F91EF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31766-7715-4932-B56B-C6CB85F7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0AE14-5E17-4126-AE2B-DFE3DC8E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FAF55-EAA6-4273-93F0-5FEC207C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F9383-65AE-4A14-A0B4-374FF460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A5206-25DD-40FF-A71F-59B3EFCB0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9E725-D748-4072-8AE6-33932BD91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29441-60A4-4602-B3E0-07C2BAA2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6D540-4443-4E14-A2C9-AEC9B66E8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6491-4761-4BDD-BC67-EA2F38BF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68E79-95CD-43CD-AB93-8F51CF70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8DBA0-5993-4DBD-ACB7-2FC69EBA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513DD-1580-4E42-8AAF-EFE754E4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4A282-9732-44CE-8D0E-43BDEA5D5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4B4D7-74C3-4D2A-A78F-EC1B699D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C4490-4F43-4B34-AF70-BFCF3BC4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6E023-561F-40F7-87C1-FC48903E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4E144-2271-4C78-AEA9-C12CFD15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BE162-EAB5-4B66-B40C-C81CDA5C1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8B29C-D05C-496B-A3F5-72CD3F251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87CB-C939-47DB-9A9C-3B937B144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5A43D-874D-485F-A8CF-BEACFD536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B61E7-9614-4584-ACF1-6BE1C557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7C6A54-0328-4FC5-AD1F-DDBD56D6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21451-66E9-483A-AF4A-4A7762BE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8AF09-D108-405E-95EF-66B39F9E5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3ABDC1-476F-479D-B2F1-4B198256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9F642-023A-4BC9-BBA0-52D09E215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0A0131-FA91-4A95-9287-B8AA1AE5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E777E-7F91-4670-A7D0-1B5F65ED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02BD5-B0E4-490A-A2E8-97CDD889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1A0E-8FA2-40F6-AC71-03AD6E8C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B3EA5-C2D6-4165-A74A-D6EB34F1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C1466-ECB0-4DEE-99D6-C7A708152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2113F-CC65-4271-9721-63DB53725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90A5B-E07B-4E74-A592-9222ED0E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4DA00-D8A8-4515-9B69-DF3580DE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68EB1-312C-4E0C-8325-A1DA11BD7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9E160-AB25-4200-B41C-6508A72F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32C67-6ADE-4575-A31C-9F1183FE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9385A-0878-4B63-B629-D4117552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F5BB5-2BE9-43C2-8254-AF788061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492C-6491-4E33-8788-0AC885C5E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C47B8-59D1-42B5-BBF2-C2BA38695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B2B4B-2369-4BB7-B361-27BCAAF20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D27C91-FA53-43ED-A4EB-00C766DCE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3D696-D00C-4126-9C26-100253F21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E00FE-DDAD-4107-A1BF-A00DC9501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9CBE4E-D845-4E36-AF62-F45D9685F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99FD7-54A0-4DB8-9492-79DADF9B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D7C5F-EAAF-4184-8A30-54FC2A0A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7AFF0-3C07-40DA-9912-F82D9EFA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48E54-4623-4444-9BE5-DDF31927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D05B-A11F-42A0-9C55-4B40638D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FEAC4-B69E-4020-9EF7-E16F8A95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408A9-892D-42F4-B700-3FDC9DD47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551EB4-CF2A-4DA4-A09E-54EF17B9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14BF0-F9AD-4570-8F2D-63621D718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96276-AC4C-4455-9FDD-0A0A1698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DF68-9F26-419B-8AA0-5CCE3062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0304-762D-4BFC-8F92-7E32E4BF631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02AF-A642-48BB-A345-A37EBEBF6518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9FC9F-BE68-49BD-B04F-773AD709787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F4D6C-A512-4046-A447-EE444481FA6E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2CE3-D3F4-451A-A0B7-F852CC3A6C3A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AADE2-0050-4E6A-9995-10C564EBEC30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A88D-4EC4-485E-8018-230931AEA3D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ADCF-5E9D-43FB-BBAF-33A9F1E0D0AB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B006-6983-4DD8-9CD9-0EBC26A5002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5D90-7539-4BA3-A1B6-9FB370E852DF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3ED6-313D-4B2C-AA6A-9EE0D3EBFF2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2CB1-46A2-40AE-A0C0-D2D2ADB5CA75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2984-5035-4372-A6E5-5C82150D6CCE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9A81-A850-4B4B-A3C5-38F5CB51E7A5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28880" y="1785960"/>
            <a:ext cx="5286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600" spc="-1" strike="noStrike">
                <a:solidFill>
                  <a:srgbClr val="572314"/>
                </a:solidFill>
                <a:latin typeface="Gill Sans MT"/>
              </a:rPr>
              <a:t>THE EYE</a:t>
            </a:r>
            <a:endParaRPr b="0" lang="en-US" sz="8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Retinal Detachment</a:t>
            </a: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600" y="1447560"/>
            <a:ext cx="363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an be caused by trauma – e.g. box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udden acceleration and deceleration – bungee jumping, car accid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3" descr="2mosley.jpg"/>
          <p:cNvPicPr/>
          <p:nvPr/>
        </p:nvPicPr>
        <p:blipFill>
          <a:blip r:embed="rId1"/>
          <a:stretch/>
        </p:blipFill>
        <p:spPr>
          <a:xfrm>
            <a:off x="5286240" y="1357200"/>
            <a:ext cx="3446640" cy="4572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Detached Ret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0" name="Content Placeholder 3" descr="Retinal_Tear_02[1].png"/>
          <p:cNvPicPr/>
          <p:nvPr/>
        </p:nvPicPr>
        <p:blipFill>
          <a:blip r:embed="rId1"/>
          <a:stretch/>
        </p:blipFill>
        <p:spPr>
          <a:xfrm>
            <a:off x="3171960" y="1571760"/>
            <a:ext cx="4043160" cy="4357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Avulsed Eye ball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ill it ever work agai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hat will need to be intact for it to work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Picture 3" descr="halloween0411.jpg"/>
          <p:cNvPicPr/>
          <p:nvPr/>
        </p:nvPicPr>
        <p:blipFill>
          <a:blip r:embed="rId1"/>
          <a:stretch/>
        </p:blipFill>
        <p:spPr>
          <a:xfrm>
            <a:off x="2786040" y="307188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Anatomy of the Ey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Content Placeholder 3" descr="eye_anatomy.gif"/>
          <p:cNvPicPr/>
          <p:nvPr/>
        </p:nvPicPr>
        <p:blipFill>
          <a:blip r:embed="rId1"/>
          <a:stretch/>
        </p:blipFill>
        <p:spPr>
          <a:xfrm>
            <a:off x="2286000" y="1643040"/>
            <a:ext cx="5286240" cy="43578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mmon Disease of the Eye</a:t>
            </a:r>
            <a:br>
              <a:rPr sz="3900"/>
            </a:b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James is a 22 yrs old martial arts athlete who sustained a kick to his right eye 6 months ago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sustained injury to his right cornea laceration due to the contact le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s seen by an opthalmologist and treated for several week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But he still has blurred vision in his right ey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t is best seen under slit lamp, after flourescin stai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29200" y="2285640"/>
            <a:ext cx="2743200" cy="5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Picture Placeholder 4" descr="Corneal_laceration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6385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The corneal injury is visualised as a white patch on the corne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86280" y="2285640"/>
            <a:ext cx="27432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Flourescin Staining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8" name="Picture Placeholder 4" descr="384470808_9a073d2be9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lourescin staining selectively stains damaged corneal tissu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Further Treat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n full thickness corneal laceration, aqueous humour may leak out resulting in distortion of the shape of the eyeball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nted to continue fighting, so further treatment with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Phototherapeutic keratectomy (PTK) or Corneal Transplan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Failure to do so, he may not be able to clear his Pre-participation examination with 'one good eye'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Catara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s - clouding or opacification of the natural lens of the ey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 Vis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3" descr="cat_m.jpg"/>
          <p:cNvPicPr/>
          <p:nvPr/>
        </p:nvPicPr>
        <p:blipFill>
          <a:blip r:embed="rId1"/>
          <a:stretch/>
        </p:blipFill>
        <p:spPr>
          <a:xfrm>
            <a:off x="2714760" y="2500200"/>
            <a:ext cx="4572000" cy="314352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How can cataracts be treated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99760" y="1285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he only treatment for cataracts is surgical removal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Cataract surgery is the removal of the eye lens and replacing it with an artificial on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wo basic types of surgical procedures to treat catara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If the eye is otherwise healthy, an intraocular lens may be used to replace the natural, cloudy lens. This lens requires no car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500440" y="1066680"/>
            <a:ext cx="3429000" cy="564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Professor Fred Hollow’s </a:t>
            </a: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work to restore sight to the cataract blind in developing countries was ongoing 15 years after his death.</a:t>
            </a:r>
            <a:br>
              <a:rPr sz="2400"/>
            </a:b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2" name="Picture Placeholder 4" descr="fredhollows_wideweb__470x318,2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RED HOLLOWS PERFORMING AN OCULAR EXAMINATION IN VIETNAM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20:52:08Z</dcterms:created>
  <dc:creator>pracstudent</dc:creator>
  <dc:description/>
  <dc:language>en-US</dc:language>
  <cp:lastModifiedBy>LEGION2</cp:lastModifiedBy>
  <dcterms:modified xsi:type="dcterms:W3CDTF">2016-01-14T12:09:32Z</dcterms:modified>
  <cp:revision>13</cp:revision>
  <dc:subject/>
  <dc:title>THE EYE</dc:title>
</cp:coreProperties>
</file>